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8EF7-6139-4CE7-8999-4C5FCDE58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679C-1841-4F8B-8DA9-2EC177E6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5FFC-C1AC-4F28-AB62-28894C4DF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F20D-D6AD-4320-AA8A-4103ED156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A965-D87F-45EA-B852-C98D76D8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B44C-C615-4267-B28E-CB9AA9C0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5740-7ECC-4ABA-9F44-BC6583F8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C8B4-1891-445B-AC01-E0ED8C1F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8C33-C943-4D41-B3D5-542076D2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E758-DC99-41AC-983A-9384749C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4BD1-1C67-4DE5-8C69-61D50929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6DFC-712B-44B8-A7C2-D723C802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30AF-78FA-4560-A02A-12E323EAC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 ARG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607000" y="228600"/>
            <a:ext cx="3537000" cy="6324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4920" y="174600"/>
            <a:ext cx="457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POND ON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hat is happening here?  What emotional impact do these have on the view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378320" cy="6629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74600"/>
            <a:ext cx="4572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OPY ON LEFT &amp; RESPOND ON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hat is a PSA?  Which is more effective (respond after seeing both slide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48320" y="304920"/>
            <a:ext cx="4322520" cy="6095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52280" y="174600"/>
            <a:ext cx="4419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POND ON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hat is a PS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= Public Service Announcement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Which is more effective? Why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00400" y="685800"/>
            <a:ext cx="5943600" cy="5776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80" y="1066680"/>
            <a:ext cx="312444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COPY ON LEFT &amp; RESPOND ON THE RIG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How do Americans feel about drink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124600" y="304920"/>
            <a:ext cx="4019400" cy="5943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533520"/>
            <a:ext cx="4648320" cy="57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PY ON LEFT &amp; RESPOND ON TH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ho is the audience?  To what do these appeal?  What type of argument is being us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lide 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lide 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lide 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48320" y="609480"/>
            <a:ext cx="3870360" cy="5943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" y="304920"/>
            <a:ext cx="4038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POND ON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ho is the audience?  To what do these appeal?  What type of argument is being us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76920" y="457200"/>
            <a:ext cx="3801960" cy="5791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380880"/>
            <a:ext cx="3581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POND ON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ho is the audience?  To what do these appeal?  What type of argument is being us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86200" y="228600"/>
            <a:ext cx="4952880" cy="6095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0"/>
            <a:ext cx="33526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POND ON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ho is the audience?  To what do these appeal?  What type of argument is being us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122720" y="0"/>
            <a:ext cx="5021280" cy="6629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0880" y="45720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POND ON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ho is the audience?  To what do these appeal?  What type of argument is being us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681360" y="0"/>
            <a:ext cx="5462640" cy="6629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304920"/>
            <a:ext cx="35053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OPY ON LEFT &amp; RESPOND ON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hat do we associate with drink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724280" y="228600"/>
            <a:ext cx="4081680" cy="6629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52280" y="0"/>
            <a:ext cx="44960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OPY ON LEFT &amp; RESPOND ON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hat is happening here?  What emotional impact do these have on the view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21:53:06Z</dcterms:created>
  <dc:creator>Stephanie Reed</dc:creator>
  <dc:description/>
  <dc:language>en-US</dc:language>
  <cp:lastModifiedBy>Nvasquez</cp:lastModifiedBy>
  <dcterms:modified xsi:type="dcterms:W3CDTF">2009-11-25T19:29:50Z</dcterms:modified>
  <cp:revision>6</cp:revision>
  <dc:subject/>
  <dc:title>Slide 1</dc:title>
</cp:coreProperties>
</file>